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894-6146-468A-BEA2-2A0C2090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197080"/>
            <a:ext cx="82296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C30-EE0E-4827-B515-F3EC1CB1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197080"/>
            <a:ext cx="40158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197080"/>
            <a:ext cx="40158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14B-DBE5-4016-9CDA-B3F85531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197080"/>
            <a:ext cx="26496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197080"/>
            <a:ext cx="26496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197080"/>
            <a:ext cx="26496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75C-0AAD-4CF1-9E5D-D818D657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965-84D9-46F5-9423-3F259954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FBD-E01E-429E-BB44-5A86EDB6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ECC-7ED3-4D58-8E22-FD6A2CD9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5BF-C8FD-4DA5-9425-0C521EA5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26F-13FE-4276-9466-E94D75EF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197080"/>
            <a:ext cx="40158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D2E-2482-404E-BC88-8694CA6F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197080"/>
            <a:ext cx="40158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CDE-9CD7-45FE-9F57-8E7B370B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197080"/>
            <a:ext cx="82296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2DB-0285-4DCE-A7A7-27C6FAE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7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7000" indent="-59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15800" indent="-59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534600" indent="-5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534600" indent="-5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534600" indent="-5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1716-AE57-4E98-8295-97DDA6269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hyperlink" Target="D:\Impuls\timer\Impuls.exe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Натисни иконката по-горе, за да видиш как действа таймерът в Пауърпойн презентац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Същата е качена по следния начин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Качи някаква картинка в Пауър пойн страниц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Натисни върху картинката десен клавиш на мишк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Избери локалното меню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Избери бутон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u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rowse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бутона избери програмата (в случа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uls.ex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За да не излиза предупредителният надпис, че има опасност от вируси, избери в менютат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ols/Options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страницат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curity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 а от нея бутон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cro Security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 и там радиобутон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w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Стартирай с клавиш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5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презентацията и натисни (еднократно) левия бутон на мишката върху картинката. Излиза прозореца на таймер програ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124080" y="0"/>
          <a:ext cx="183852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0"/>
                    <a:ext cx="1838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9:10:24Z</dcterms:created>
  <dc:creator>Plamen Penchev</dc:creator>
  <dc:description/>
  <dc:language>en-US</dc:language>
  <cp:lastModifiedBy>Plamen Penchev</cp:lastModifiedBy>
  <dcterms:modified xsi:type="dcterms:W3CDTF">2007-03-22T09:09:23Z</dcterms:modified>
  <cp:revision>39</cp:revision>
  <dc:subject/>
  <dc:title>Хемометрика?</dc:title>
</cp:coreProperties>
</file>